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060365"/>
        <c:axId val="23031997"/>
      </c:barChart>
      <c:catAx>
        <c:axId val="490603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31997"/>
        <c:crosses val="autoZero"/>
        <c:auto val="1"/>
        <c:lblAlgn val="ctr"/>
        <c:lblOffset val="100"/>
        <c:noMultiLvlLbl val="0"/>
      </c:catAx>
      <c:valAx>
        <c:axId val="230319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603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EEBA-A402-4E4C-8FF0-12A1CC71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A7B-E044-4E69-A0E5-1144D47F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4B7C-284A-4DE3-9C13-E1AB286F2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0529-BBD1-46B0-A922-9B26AA76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C9DD-A57E-4397-AAC3-635AF535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7F75-80B9-4A4F-95C6-9CB388C2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E5F9-4423-40A3-BB46-4BCA404E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8794-9494-48CD-AE10-C7CF68DF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7984-2DE3-4BA2-8FB3-EB0C06C1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44E-D659-4A5F-8218-032080B6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8422-D72B-44CD-A5C2-0927A945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8C94-B9DA-4188-B5DE-A5C8B476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6361B-1CAB-4B82-B80C-38F3EF457D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