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497065"/>
        <c:axId val="10614695"/>
      </c:barChart>
      <c:catAx>
        <c:axId val="649706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614695"/>
        <c:crosses val="autoZero"/>
        <c:auto val="1"/>
        <c:lblAlgn val="ctr"/>
        <c:lblOffset val="100"/>
        <c:noMultiLvlLbl val="0"/>
      </c:catAx>
      <c:valAx>
        <c:axId val="1061469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9706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BB51C-27C7-47C6-9AA5-96EB0E175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4D583-972B-4010-AD6C-0CE2ABD07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B1ADD-2909-4858-A55E-7691012B4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EEEC9-1B32-4000-90D3-28DF87803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782A5-24B7-408D-B82E-D7FEBD5D2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06538-7FD8-44E3-A8E7-27E8CADE9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ED51E-BEB7-406D-9481-0A3519907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27F23-8328-4B8F-9325-63094E3D6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F4823-66D0-421E-ACF8-0A85E2D4A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1EB6B-813A-4FEB-8448-DAA8DA405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E0984-CCF2-42A1-B546-F0C79C35C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E1BE0-DA07-476F-AA87-7FFC124A2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5F7C9D-8992-4A2B-928A-FD4878490CA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