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50902"/>
        <c:axId val="50059596"/>
      </c:barChart>
      <c:catAx>
        <c:axId val="69350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59596"/>
        <c:crosses val="autoZero"/>
        <c:auto val="1"/>
        <c:lblAlgn val="ctr"/>
        <c:lblOffset val="100"/>
        <c:noMultiLvlLbl val="0"/>
      </c:catAx>
      <c:valAx>
        <c:axId val="50059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0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3A2-BDD1-4018-95AC-CD8D8425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03A-9994-445D-B150-7B281BCF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447-6289-4CD9-A9D6-E0F479A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CC1-681A-490B-A77F-725751E3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1C5-F6FA-4618-81CB-EF78A617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458-D2D8-4BCD-96E8-F5BF1B2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71E-155D-4396-9D21-14D71CD2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6E7-8A59-4F9E-9331-F882B630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611-1543-4A0E-AC86-8EDF72F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5DC-1766-448D-BA5B-DCCDE0A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812-A6A4-4DB5-B55B-95C3262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B12-5BA9-4ECB-8D5A-BFD1AC8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EA0AE-58DD-4B88-813C-511E0F32D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