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569937"/>
        <c:axId val="16516742"/>
      </c:barChart>
      <c:catAx>
        <c:axId val="156993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516742"/>
        <c:crosses val="autoZero"/>
        <c:auto val="1"/>
        <c:lblAlgn val="ctr"/>
        <c:lblOffset val="100"/>
        <c:noMultiLvlLbl val="0"/>
      </c:catAx>
      <c:valAx>
        <c:axId val="1651674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6993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EC259-1B3F-41B7-9C9E-C5413F1E4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DD494-216B-4458-B7FD-C6E59E214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AD32E-192D-49CB-A2A9-A6320E5A7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CCFAA-8BC7-4A76-B9FF-B1CA46164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A965B-24FB-49B3-8504-73BA87EC0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4721B-329B-4A87-8F4A-849EA151A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E4799-CBE0-448C-A747-80298BB98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437ED-E3B6-4FBF-BDFE-EDA32D41A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26629-5806-43AF-9BC6-D866252F9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8F785-DC83-480E-A812-68CE1F854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C71CE-8B9E-4F5F-8DA3-463CBE32B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A218B-DC22-497C-9102-FDBF41590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3A2818-ADB9-4A58-961B-BA3E93AB067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