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74337"/>
        <c:axId val="89743592"/>
      </c:barChart>
      <c:catAx>
        <c:axId val="98974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43592"/>
        <c:crosses val="autoZero"/>
        <c:auto val="1"/>
        <c:lblAlgn val="ctr"/>
        <c:lblOffset val="100"/>
        <c:noMultiLvlLbl val="0"/>
      </c:catAx>
      <c:valAx>
        <c:axId val="89743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74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1E3-5C63-4B09-80B5-713FE92B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6AC-FC1B-465F-AB6B-B83CFE4E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7B7-4B73-4E9A-B298-96E489E6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3408-AE49-4593-8A8B-12E16866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0607-1636-4D65-AA0C-134F571E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D69-256C-4FEE-A7CF-65F18D50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CB7-1AEB-4751-A043-D9B720AA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E19-0FA9-4D45-BA7B-46929072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A0FD-D317-4ECA-955B-7C7FFF7E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FE8-4694-4F8A-A999-5E02EF5A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8E6-2FA9-47D5-8D8D-8FBBA32F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689-EC3A-4159-8262-97C52991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6C1D8-2BA8-4360-8C68-19F30C12EB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