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58632"/>
        <c:axId val="56773164"/>
      </c:barChart>
      <c:catAx>
        <c:axId val="43758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73164"/>
        <c:crosses val="autoZero"/>
        <c:auto val="1"/>
        <c:lblAlgn val="ctr"/>
        <c:lblOffset val="100"/>
        <c:noMultiLvlLbl val="0"/>
      </c:catAx>
      <c:valAx>
        <c:axId val="567731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58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85A-D929-4779-A26C-6DA4F068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AAD-E9E5-4B6F-A737-148D9D2D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D8C-3727-4A04-A514-992C9B73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57D9-A08C-4E82-BB83-9A3F48C8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ACF6-4BFE-44C0-8BB1-B8F6E09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FCD-8A96-44E1-A137-96C9DD6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96E-F149-458B-8AE2-096F3ECA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62C-17E9-4B41-B8C5-E862A53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117-B89D-4EC9-BC4D-38884C7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0660-F1C5-4521-821D-7DA3BF68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A5A-5BA4-46E5-9562-2609755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8F03-C458-42A7-A926-359E99E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B6AA6-B7B5-4382-AC8F-C2F83320C5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