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10014"/>
        <c:axId val="42748805"/>
      </c:barChart>
      <c:catAx>
        <c:axId val="94610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48805"/>
        <c:crosses val="autoZero"/>
        <c:auto val="1"/>
        <c:lblAlgn val="ctr"/>
        <c:lblOffset val="100"/>
        <c:noMultiLvlLbl val="0"/>
      </c:catAx>
      <c:valAx>
        <c:axId val="42748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10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D7E-FE3A-44B5-99B8-5618ECF2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824-8E07-4D0B-BD8E-2CDC781A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353-F56D-472F-9BD9-5916D98B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A4F-2787-4DF1-8141-C06FF451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9EE-BF08-4B18-8A3D-DD171E2A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48F-DBBB-48F5-8849-27D3442F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685-A1A1-443A-9168-BC24A4ED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E02-14DF-4453-8B86-87CB098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EB6-CE79-490B-BA1F-8D7DAF82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9CF-68EE-4CFA-BFD4-7684422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48C-C5DF-41E8-AF07-E07A4613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EC8-5461-46E3-BA7F-2647931E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0136F-A28C-41EB-9C90-4FC4B428B0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