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579566"/>
        <c:axId val="33332004"/>
      </c:barChart>
      <c:catAx>
        <c:axId val="915795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32004"/>
        <c:crosses val="autoZero"/>
        <c:auto val="1"/>
        <c:lblAlgn val="ctr"/>
        <c:lblOffset val="100"/>
        <c:noMultiLvlLbl val="0"/>
      </c:catAx>
      <c:valAx>
        <c:axId val="333320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795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FAD6-1D8C-4775-88FA-1923284D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D38C-9E28-4F9D-AC25-28E42921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FF34-8AE9-45CF-9A67-25941F4C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E818-AAB8-4F9B-AB8D-81123CDD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9BEE-39C2-4244-988B-9A3E669E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59FA-D3D8-40D9-9856-E94AD8C3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9190-843F-4A70-A559-6F3F176E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E55D-3FD0-4681-B537-BBA9239D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35BC-4D5B-439B-B1A4-DAB88643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DA92-2F55-4D78-B966-08093B5D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A48-74A4-4173-B05B-58EEC7C2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F14A-935A-4E0B-A541-CF2989A9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B39E8-D668-47D9-B917-0B52C65239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