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22207"/>
        <c:axId val="42505876"/>
      </c:barChart>
      <c:catAx>
        <c:axId val="31822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05876"/>
        <c:crosses val="autoZero"/>
        <c:auto val="1"/>
        <c:lblAlgn val="ctr"/>
        <c:lblOffset val="100"/>
        <c:noMultiLvlLbl val="0"/>
      </c:catAx>
      <c:valAx>
        <c:axId val="42505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22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422-230A-4735-9179-E5C75ABD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E9F-2509-4BE4-BFC3-FE09446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7DA-513B-4255-81C6-1EAD857B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21F-B7D4-4A64-B7EE-49D7B0DB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377-323A-4617-9831-7EF3AA7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B3C-C9FA-46BD-B807-C9B7DFDC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6C5-7F9F-427D-B312-4704281C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2CD-27A9-4977-A1F1-D32F137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994-A5AD-418B-811B-4DE515B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870-6F50-4526-97E1-C1DB3A00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F6F-1AAA-445F-A450-27883FC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276-6BA5-4DF2-8C70-DAE5F1C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B3B5C-E3F6-4122-92EA-D9D5E7DFB3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