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337651"/>
        <c:axId val="8110325"/>
      </c:barChart>
      <c:catAx>
        <c:axId val="293376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0325"/>
        <c:crosses val="autoZero"/>
        <c:auto val="1"/>
        <c:lblAlgn val="ctr"/>
        <c:lblOffset val="100"/>
        <c:noMultiLvlLbl val="0"/>
      </c:catAx>
      <c:valAx>
        <c:axId val="8110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376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C4F-CE33-432B-A004-C110EC4F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344-CA09-41FC-BF66-56F0BEA3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48BC-73EB-4EB5-9D39-00EBF575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920-F3B8-4B90-A524-A0790935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ECF5-D697-4632-A46B-BC1100AA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BCE-399E-4FDA-B82F-B066283B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ED29-F68A-4C41-AFD7-89B721AC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139-59BB-4571-B60F-36A72FA9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99F-D790-4B16-A983-8614864D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FC1-DA7B-4053-B1B9-924F1603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8A9-5CE0-4BE0-89A4-62A28DAC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D1F6-F2CE-4D3B-B83D-EDD6538E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1043C-7489-4C5E-9D3F-D2121A81D9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