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440432"/>
        <c:axId val="4780193"/>
      </c:barChart>
      <c:catAx>
        <c:axId val="714404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0193"/>
        <c:crosses val="autoZero"/>
        <c:auto val="1"/>
        <c:lblAlgn val="ctr"/>
        <c:lblOffset val="100"/>
        <c:noMultiLvlLbl val="0"/>
      </c:catAx>
      <c:valAx>
        <c:axId val="47801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4404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F247-A259-40E8-BDDE-46507CD97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6344-98A9-4E43-8CC6-7306A600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0A03-A1C4-4D2C-9C23-DFAC3E90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97D6-DD6A-405D-B4A7-0B0558C54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B649-F0BA-4190-89AD-8BDEED02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7A59-1133-45D8-B00A-51301E76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4BCF-DC2F-420A-B39B-519A298A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8549-13CD-43AE-BB43-597D73D0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6C44-13B6-4DB1-82C2-7F6C013E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0751-FB28-4555-960F-0C6E3A20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5A74-0BD0-42B8-B9DD-5620E068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F1B6-3989-4D08-9B0B-59AB6809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7F7D8-5382-40DC-B116-25B6FC8241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