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91724"/>
        <c:axId val="86868802"/>
      </c:barChart>
      <c:catAx>
        <c:axId val="17691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68802"/>
        <c:crosses val="autoZero"/>
        <c:auto val="1"/>
        <c:lblAlgn val="ctr"/>
        <c:lblOffset val="100"/>
        <c:noMultiLvlLbl val="0"/>
      </c:catAx>
      <c:valAx>
        <c:axId val="86868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91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833-551A-44F6-9661-46CC7024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7BE-A142-47A3-856F-876FEE5F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7B1-57A8-4BBF-8BA6-B6569667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003-753A-4BBD-9AE3-8AC3093C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045-350A-4986-9D66-DFCC9105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D5E-BA55-4575-A4F1-D5B23E3C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CAE-61E3-4A89-B0C1-8E59D4C0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2F7-BBA5-4315-8CA2-3BC1D675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5C2-F4C3-439E-842A-3924E1C5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483-599E-4466-88F6-E0F3BF02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3ED-C317-4ADA-BA31-DE6B24C6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157-7F62-47EB-8419-4BF97131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7E47C-25B1-4CAB-B482-177FD9FCDB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