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868657"/>
        <c:axId val="28705541"/>
      </c:barChart>
      <c:catAx>
        <c:axId val="118686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05541"/>
        <c:crosses val="autoZero"/>
        <c:auto val="1"/>
        <c:lblAlgn val="ctr"/>
        <c:lblOffset val="100"/>
        <c:noMultiLvlLbl val="0"/>
      </c:catAx>
      <c:valAx>
        <c:axId val="287055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686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1B27-4996-4BC8-8FC6-4F7D1B0BF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3834-E1AE-4EDE-AB48-B1C22E9C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864C-6440-4F03-89BD-3F31A130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A7DB-C509-422F-B2C5-A55E95C3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ACE0-C89A-4D8E-A70B-1F1FDD86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1BE3-A112-417A-9D61-D8EE773A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64EA-756C-4E66-8BEF-24BE5CA9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32E0-2E28-41DD-985F-B442D3CA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45A8-B804-408E-B2ED-EBF66D3A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4FA5-22B6-47D3-8549-E8F6839C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0AF0-315E-48F3-A9B0-F3861341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A550-0111-4421-AD14-D7CCAEF9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CDF97-BF20-44BA-A0DA-3E027DFB12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