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13564"/>
        <c:axId val="85236905"/>
      </c:barChart>
      <c:catAx>
        <c:axId val="950135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36905"/>
        <c:crosses val="autoZero"/>
        <c:auto val="1"/>
        <c:lblAlgn val="ctr"/>
        <c:lblOffset val="100"/>
        <c:noMultiLvlLbl val="0"/>
      </c:catAx>
      <c:valAx>
        <c:axId val="85236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35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BAEC-4B5A-43F6-A726-717CA4CD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C138-FE5A-48C0-92EC-375DE230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205-CAE5-4A76-899F-F486997D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0B5-E795-4AC1-9F55-1A0EC5B6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DA40-79EF-4F0C-83CC-7DC4B8B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BEA-EB1C-49E3-BF55-064EB8F6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E8A-6696-4EAA-A039-9BD5631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F563-8654-46D2-BC4E-0CC378AC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993-1AB0-42A2-AE2F-24A7ED5C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325-0E3C-4213-BFF2-332F98BA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732-C9A1-4DDE-9A7E-DBC3AE08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0B4D-CF49-4485-9209-B3B3484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E7BF1-58B8-4AF3-85EA-674D17441E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