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90782"/>
        <c:axId val="39762748"/>
      </c:barChart>
      <c:catAx>
        <c:axId val="37190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62748"/>
        <c:crosses val="autoZero"/>
        <c:auto val="1"/>
        <c:lblAlgn val="ctr"/>
        <c:lblOffset val="100"/>
        <c:noMultiLvlLbl val="0"/>
      </c:catAx>
      <c:valAx>
        <c:axId val="39762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90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696-81D1-4C55-81DB-F8AD84BB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7EC-9FC3-48CA-84ED-A34EBBA3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35A-E2DF-4CBD-8441-97C61519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C88-E296-452B-A1CD-4218F627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E6B-2FCA-477B-98E1-1F51DA82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4EE-A151-4683-8574-1D16C23B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69B-5A93-4049-BBCE-1E67F4B5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219-8800-4899-8526-3EACCA7B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805-F4FA-4E0B-9AA5-79594C3A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009-BC65-430B-BC99-FDF99E0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71B-83C6-4BC0-9272-241AD13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892-A8B2-4FC0-A901-FD0F778E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A632A-865A-46DC-A1F4-82589E8DAA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