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783"/>
        <c:axId val="63869005"/>
      </c:barChart>
      <c:catAx>
        <c:axId val="346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69005"/>
        <c:crosses val="autoZero"/>
        <c:auto val="1"/>
        <c:lblAlgn val="ctr"/>
        <c:lblOffset val="100"/>
        <c:noMultiLvlLbl val="0"/>
      </c:catAx>
      <c:valAx>
        <c:axId val="63869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70D-BC7A-4642-8303-5FE61B95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B00-D21B-4DD0-B4AC-DBA07462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0E5-D8D0-4575-AE5B-20D2B249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366-160E-4EF7-9450-6132760E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71D-03F8-4C78-9B07-59F0F5F0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E3E-E984-446D-8991-B98790A8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446-148B-4334-9251-1D3F37D0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F4E-1791-41A8-9520-772CDCAD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418-42AC-437F-ADC1-28771522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2D9-A95B-40CA-B410-CF4B412B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EB9-30FE-44A9-A444-489ABD8F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ED3-788D-4A4C-88B2-E1B32E29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031DE-8014-4710-BDCE-90DE0D4236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