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581012"/>
        <c:axId val="35705697"/>
      </c:barChart>
      <c:catAx>
        <c:axId val="865810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705697"/>
        <c:crosses val="autoZero"/>
        <c:auto val="1"/>
        <c:lblAlgn val="ctr"/>
        <c:lblOffset val="100"/>
        <c:noMultiLvlLbl val="0"/>
      </c:catAx>
      <c:valAx>
        <c:axId val="357056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5810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CFB0-C2D0-41AD-AC07-1823D0AE8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B3C3-0D1B-46A3-B25F-0025FBAD4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04D9-391D-41FB-AE1F-857226303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31BC-EB64-438D-9F58-5418CD8BB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7680-C2E7-4FA3-9E0A-170EFF98D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79CC-0C4D-407B-AA18-3AE759398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3311-F81C-49B2-B278-5ED49FA44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7318-474B-4571-A250-F0A3C04DF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D7D2-B257-4E8B-8E55-37B28B815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92B5-AB80-49DE-BF98-5D489320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2D00-A7D5-4FCB-BDEE-7E929FF8B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9C82-EC70-4561-A1E3-AF42F7C58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6F3AFF-9985-4DCA-AA73-967EC93EBB3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