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135454"/>
        <c:axId val="9091388"/>
      </c:barChart>
      <c:catAx>
        <c:axId val="141354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91388"/>
        <c:crosses val="autoZero"/>
        <c:auto val="1"/>
        <c:lblAlgn val="ctr"/>
        <c:lblOffset val="100"/>
        <c:noMultiLvlLbl val="0"/>
      </c:catAx>
      <c:valAx>
        <c:axId val="90913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1354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009F-9764-449A-B226-73DD351CB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622F-166F-4588-AF98-3E89A1A27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86AA-CFEA-4B3A-9AF2-2F2BEE88C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D303-E448-4331-9C2E-18B5BE516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F57B-F34E-4250-AD23-42B8EAF13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D02B-265F-4250-B6DC-93290CCE2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42CC-4DFD-4EC3-8ECE-67FEBBE35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1EE2-DC6E-4345-BF1B-0E55005B8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7063-DF61-4AB7-813B-6673E414E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890D-659A-441C-8A80-522E58299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6536-B069-4C9B-B71C-F77FCEB16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2674-2F23-4588-ADAF-08D189225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B1C983-0011-45FF-9DAF-67A90B503E9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