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31683"/>
        <c:axId val="63031427"/>
      </c:barChart>
      <c:catAx>
        <c:axId val="89231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31427"/>
        <c:crosses val="autoZero"/>
        <c:auto val="1"/>
        <c:lblAlgn val="ctr"/>
        <c:lblOffset val="100"/>
        <c:noMultiLvlLbl val="0"/>
      </c:catAx>
      <c:valAx>
        <c:axId val="63031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31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21E6-4910-426C-AE3D-84193EBA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8CF-38D9-4054-9A84-006217B8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FEB-E416-40E2-BCF2-A861FAE7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678-533D-4B0F-912D-8674597D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F33-6640-4B0C-922C-AC3CC861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CFD-F93E-4BAA-A874-6C4F88D7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3BF-A074-4978-A34F-BE5924A4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924-D6AC-4089-B656-648F2D6A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52B-066E-4F46-8389-82FB64A9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867-18C8-4BAA-B750-EBDB867F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0B0-B4C7-4191-906D-FD3C59D9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54C-EF01-4C58-AB0C-10416E41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8A177-2BBC-4ABD-A73A-F0B48EEEA5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