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26108"/>
        <c:axId val="76368062"/>
      </c:barChart>
      <c:catAx>
        <c:axId val="72726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68062"/>
        <c:crosses val="autoZero"/>
        <c:auto val="1"/>
        <c:lblAlgn val="ctr"/>
        <c:lblOffset val="100"/>
        <c:noMultiLvlLbl val="0"/>
      </c:catAx>
      <c:valAx>
        <c:axId val="76368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26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1D4-1909-4896-9CBF-A5D5C142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C90-34EB-4E58-9F1D-0CC0302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289-044A-4C99-841D-A4ABA2D9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469-1369-4E0A-8C69-A7F2D210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2EA-2FF5-42C5-A631-A046CA6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6D1-8BEB-4932-BC09-6D3D1F5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9C0-5669-4CCF-B2E6-A781479E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A80-D78F-4F52-A73C-BAB1AC8C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15D-9005-4CDE-A8BE-E503A00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6BB-4421-4647-BA73-4E052C6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667-C907-4544-80E1-1368585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217-40A8-4CD0-8D60-96FE6AD1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059B-22AB-4CF1-86F2-8B54CDA933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