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66839"/>
        <c:axId val="70161371"/>
      </c:barChart>
      <c:catAx>
        <c:axId val="10166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61371"/>
        <c:crosses val="autoZero"/>
        <c:auto val="1"/>
        <c:lblAlgn val="ctr"/>
        <c:lblOffset val="100"/>
        <c:noMultiLvlLbl val="0"/>
      </c:catAx>
      <c:valAx>
        <c:axId val="70161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66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DF0-121C-4C75-B2D1-6F9586F4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7FC-7ECF-4859-A736-7EE9F35A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4A3-09FF-436B-99B6-378B91F2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6B0-BAC1-4C85-9203-E1879078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0EA-BAE3-4EE2-A5F0-11863DC5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41B-627C-42DF-9A1F-23CF6046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F97-A2EE-4869-AD45-E8FB40FD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608-311E-44C9-936E-661728F8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0BA-0031-4130-A4B8-90167B76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2A2-6A4E-476F-B43E-6086DF96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AF3-2C84-4A19-AA15-1880CB4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A71-C216-4FC7-BD38-28ABBBB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4CBC0-363C-4E70-BCFD-96456ED499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