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15261"/>
        <c:axId val="54173999"/>
      </c:barChart>
      <c:catAx>
        <c:axId val="34315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73999"/>
        <c:crosses val="autoZero"/>
        <c:auto val="1"/>
        <c:lblAlgn val="ctr"/>
        <c:lblOffset val="100"/>
        <c:noMultiLvlLbl val="0"/>
      </c:catAx>
      <c:valAx>
        <c:axId val="54173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15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499-8B6E-42BF-8AEA-30B7D1AD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337-864E-4902-B1BD-9914BF6E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770-E391-4EE1-8771-52E8E269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E5E-AD46-4F37-BDE3-5DB0ACFC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7B5-4704-4E0F-8806-010F672E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8F5-E925-4F0B-BF42-515B2A7A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AE0-AAB0-4B89-8FF3-B9E52F60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47C-BEE5-4463-ADB2-3E2E6B0B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77A-0E39-4D6F-9D33-23EDC822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716-F923-443E-B570-774E55C0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37C-2180-404A-B063-74F742D7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152-FA5E-453E-88A5-5CFC0465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53440-4836-4186-8B90-69593EE8D8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