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37190"/>
        <c:axId val="10094081"/>
      </c:barChart>
      <c:catAx>
        <c:axId val="19237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94081"/>
        <c:crosses val="autoZero"/>
        <c:auto val="1"/>
        <c:lblAlgn val="ctr"/>
        <c:lblOffset val="100"/>
        <c:noMultiLvlLbl val="0"/>
      </c:catAx>
      <c:valAx>
        <c:axId val="10094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7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1FB-4DD5-4DF6-9341-B2D8C198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075-E656-461A-8C62-A36109C4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234-11AB-452B-9AE4-71A0E0B9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90A-CEFC-433D-B126-F505A6C7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ABB-0BB3-4C2D-927D-0F292D67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445-BADE-494D-AC5A-B1B6308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F2A-B7D5-43F4-879D-C4AEA411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B2B-CD67-4B03-94B8-A60292EF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05C-FA19-4C3C-8DB0-604C4DBA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54D-DD86-4EE4-A1FF-9702DEDE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0A2-AA45-47EB-BC51-1D4D9E5F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60E-652B-4E03-857C-BFB437C6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E0E99-469C-48C9-BDEB-AE8BDE7141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