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4412"/>
        <c:axId val="4650415"/>
      </c:barChart>
      <c:catAx>
        <c:axId val="3164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0415"/>
        <c:crosses val="autoZero"/>
        <c:auto val="1"/>
        <c:lblAlgn val="ctr"/>
        <c:lblOffset val="100"/>
        <c:noMultiLvlLbl val="0"/>
      </c:catAx>
      <c:valAx>
        <c:axId val="465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4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347-D774-4845-84A9-F24C7BF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1DC-E511-468D-91C5-EF7ED45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BC0-8370-4999-908A-64D01212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7F8-AFD4-4BD7-9087-334BC24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378-65B0-4E15-8C1A-37836FD8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78E-A904-4EAE-93F9-07208A05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276-C8E9-4688-9EFE-0B226436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0B6-1751-418D-A6A3-D19F18C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8B3-F548-4A3A-AE1F-8C2D71E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172-EEEC-4736-9181-85644D4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6D5-3E14-486E-933E-E594DADF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CA3-BD64-419B-AAF8-261CF323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8B8D-A93F-43B4-822C-4E35C71846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