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36190"/>
        <c:axId val="45258495"/>
      </c:barChart>
      <c:catAx>
        <c:axId val="28336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8495"/>
        <c:crosses val="autoZero"/>
        <c:auto val="1"/>
        <c:lblAlgn val="ctr"/>
        <c:lblOffset val="100"/>
        <c:noMultiLvlLbl val="0"/>
      </c:catAx>
      <c:valAx>
        <c:axId val="45258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6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8F-C562-4A7A-9ABA-028CDED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669-B974-4DE5-889E-5F975ED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700-C039-49DE-AC50-218513C7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1A2-C186-42BA-AFD7-66CECA26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C9A-D189-4D36-BE2D-06910530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BD1-1F55-46C2-9970-D5042AAA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FE3-FFE7-4934-887D-2035764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B2D-151B-49C8-9ACC-CA6EE4EE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181-91E1-4680-A83F-78F6695E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168-4C10-4A35-A3DE-F848C42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819-FAF7-4C72-A812-A2FA84A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D36-C8CD-476B-BCC8-1FBA439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1EA9-40AA-4F27-A17A-7AFE2512C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