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62395"/>
        <c:axId val="76524058"/>
      </c:barChart>
      <c:catAx>
        <c:axId val="949623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24058"/>
        <c:crosses val="autoZero"/>
        <c:auto val="1"/>
        <c:lblAlgn val="ctr"/>
        <c:lblOffset val="100"/>
        <c:noMultiLvlLbl val="0"/>
      </c:catAx>
      <c:valAx>
        <c:axId val="765240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623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5CA0-7D8E-4CAE-8AB5-2DFF56B3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65F-F734-44C4-90C0-B864B223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7DC3-22DC-483D-8EB1-0CE79065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FD16-0DD2-489F-86AD-23FFD266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4A2-5BD3-459F-A17A-E0E5E9AF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0DAC-32DC-4610-9FA7-ACC580C3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3B46-7EA3-4C70-9618-F16A9B18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D3E4-0AAB-4721-8839-620EDE79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01C-7CB9-4B4D-8B01-DF6C6B87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85BA-7544-4D10-985B-24664044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62C3-C602-412E-BE7E-7BA0D9C5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2AB-24AD-4E45-9562-19F666CC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640CD-C56D-4B76-B519-0C1B01C30A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