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328901"/>
        <c:axId val="46024983"/>
      </c:barChart>
      <c:catAx>
        <c:axId val="433289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24983"/>
        <c:crosses val="autoZero"/>
        <c:auto val="1"/>
        <c:lblAlgn val="ctr"/>
        <c:lblOffset val="100"/>
        <c:noMultiLvlLbl val="0"/>
      </c:catAx>
      <c:valAx>
        <c:axId val="460249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289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29B7-8FB1-452D-8045-9F553940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8E28-F776-4F5D-B476-DC514B4D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443F-2C6C-4E57-ABEC-6ACAE736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89C8-3F37-4643-A0D9-902B4B33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0085-3F8B-4F01-BE84-38B85235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8107-7DD6-4BE7-A8B7-E26CEB81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7561-A6AE-4FF3-AFB5-2AE6C8F4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DFD7-1553-4040-BD33-38B56CA0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E65A-0EF2-495C-BE8E-EF414FC9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1DB5-C3BD-48F7-B67D-2395BBE7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A50E-B833-4DD5-A711-716D9CBA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23F7-9F40-4CE7-B572-9B1F0F4B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00D02-0DE3-487E-8A6B-F774CDF2CC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