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17406"/>
        <c:axId val="85405189"/>
      </c:barChart>
      <c:catAx>
        <c:axId val="23217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05189"/>
        <c:crosses val="autoZero"/>
        <c:auto val="1"/>
        <c:lblAlgn val="ctr"/>
        <c:lblOffset val="100"/>
        <c:noMultiLvlLbl val="0"/>
      </c:catAx>
      <c:valAx>
        <c:axId val="854051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17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89A-B4D6-4E4D-B590-3F1C45C5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B5A-A833-43DD-88D7-9C54164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CBD-3EE4-4550-9D73-C169CBD7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899-F61D-477C-BA09-BD9139C5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CC4-F155-4C33-B7DF-B2077B9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227-CE37-41AC-B91A-5DA7035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12E-63DD-410A-B358-107B6FF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4BF-CCAB-4BD6-B285-A1CE6FA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EC4-1BD8-4EA4-81F5-21F308EE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A3A-1D90-4129-A2AB-070CAD8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48A-E83A-42B9-99C6-8CAE35D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A0B-D12B-47AE-A30F-3A64316B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B72D7-831D-4803-AE18-7C0FFADD16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