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79833"/>
        <c:axId val="53051523"/>
      </c:barChart>
      <c:catAx>
        <c:axId val="602798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51523"/>
        <c:crosses val="autoZero"/>
        <c:auto val="1"/>
        <c:lblAlgn val="ctr"/>
        <c:lblOffset val="100"/>
        <c:noMultiLvlLbl val="0"/>
      </c:catAx>
      <c:valAx>
        <c:axId val="53051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798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D5F-0F3A-40B4-A152-EB39B721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A67-1890-41C5-BB0F-D2353487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3D1-3E90-421F-B190-792E3B13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BAA-A672-4AE2-A3D3-647FF4C0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A43-3D3A-42B4-837A-B438AC4F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112-17C1-4127-9A81-7B1DB5EC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78DD-5C03-4299-B1B2-66D9F0D5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686-9F88-40F4-931E-0A866266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B7E-DD95-46C1-B058-919718A4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2A56-7BA2-42C1-9410-FF3CC9A1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A23-46D8-4D54-8BAB-786B9CB0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B75E-C7F9-4075-ABC8-5CCB3465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FFA2B-7807-4A5C-BEE1-319D839158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