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61414"/>
        <c:axId val="81184452"/>
      </c:barChart>
      <c:catAx>
        <c:axId val="25761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84452"/>
        <c:crosses val="autoZero"/>
        <c:auto val="1"/>
        <c:lblAlgn val="ctr"/>
        <c:lblOffset val="100"/>
        <c:noMultiLvlLbl val="0"/>
      </c:catAx>
      <c:valAx>
        <c:axId val="81184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61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6CC-26BE-4CEC-A098-1FDE31C5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70C-929E-4627-A39C-92100CE9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D4D-4FFE-4CF2-B84F-41BF5AC8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379-49AE-467E-9501-8F5C0722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1C2-B62A-453B-ACAD-24471899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AA8-6E27-4B7F-9B41-61E4B62C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556-23FB-436D-9FDA-B562352B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3B7-9A80-463C-9B08-58CDDC3A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6D1-028F-4999-92DB-89244246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FA6-8CFD-4841-BA8E-D5B323F5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71C-CC39-4EA2-A415-E5154322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7A8-0969-41A4-AE51-ECF945CC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20A9F-1F8C-4696-968D-6AF9A35F8B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