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031700"/>
        <c:axId val="98829425"/>
      </c:barChart>
      <c:catAx>
        <c:axId val="600317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29425"/>
        <c:crosses val="autoZero"/>
        <c:auto val="1"/>
        <c:lblAlgn val="ctr"/>
        <c:lblOffset val="100"/>
        <c:noMultiLvlLbl val="0"/>
      </c:catAx>
      <c:valAx>
        <c:axId val="988294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317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AACA-21DA-4594-BE69-BB765B2EA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60F8-48C5-4041-92F7-88F381E7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CB06-3F5A-4C1B-8DB0-EF906571B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9E8F-73E3-43AC-97F6-B578F5C8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C15A-5319-4427-A29A-27F7B5AD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9D4D-5D15-4CD1-BBB6-B6907EB9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00AC-11DE-4CF3-A28B-624C7990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C94A-091E-4C30-B4E7-BDD1F9E4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86D6-B817-47E4-AD7E-B34299C2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1798-6D4A-4868-BD65-3367EA80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141A-940E-4051-AD3C-74EBCC6F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A53C-9F33-4F52-96C9-C62C2827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72F9D-6EC9-4CF9-98BF-62E5EA7AF1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