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5045"/>
        <c:axId val="37570868"/>
      </c:barChart>
      <c:catAx>
        <c:axId val="34655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0868"/>
        <c:crosses val="autoZero"/>
        <c:auto val="1"/>
        <c:lblAlgn val="ctr"/>
        <c:lblOffset val="100"/>
        <c:noMultiLvlLbl val="0"/>
      </c:catAx>
      <c:valAx>
        <c:axId val="3757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5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C27-0546-4CB1-93EE-905334E1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E99-04DA-4613-B5AD-8DAEFD9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FE9-1602-4EA2-B995-73549537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C93-A801-4BF4-8811-8F83F332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531-AB2F-43E3-A0CE-59CDF4D8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BAC-5C8E-4A8A-B343-37A9F42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734-15A2-4246-82C1-3ACAC33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1AA-16B7-4651-BD1C-768E265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E55-0516-430E-A747-BCDD701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184-CB58-429A-B73D-63D598D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321-8A75-4803-9FAA-6AB17E5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F5F-6F23-4988-B065-1303A8B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C5DD9-E754-4E96-815C-BD3CF75F1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