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52067"/>
        <c:axId val="80352352"/>
      </c:barChart>
      <c:catAx>
        <c:axId val="54952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52352"/>
        <c:crosses val="autoZero"/>
        <c:auto val="1"/>
        <c:lblAlgn val="ctr"/>
        <c:lblOffset val="100"/>
        <c:noMultiLvlLbl val="0"/>
      </c:catAx>
      <c:valAx>
        <c:axId val="80352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2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418-022E-45DC-BCA2-EFF50624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5FB-96F3-44F8-94F6-659AA8D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195-6909-46FA-98D9-920865A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B4F-A7B7-4206-8C74-CFDC0B3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82E-8A77-4B1F-ABE0-9D32F8AD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091-3C05-49FF-9067-6468E6C5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0FA-CF8F-4DCC-B97F-6669BA08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F7C-0095-4297-86A1-150A8105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7ED-9F16-40D0-A3CF-1F220F28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979-2185-4F67-B2E0-A0C3A83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20F-F1F9-42E4-8DAF-9A5B28F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95B-C057-4BBF-8DB3-C731101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FF45D-8523-4F02-AF9D-2EC36447E9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