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17280"/>
        <c:axId val="23521134"/>
      </c:barChart>
      <c:catAx>
        <c:axId val="49617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21134"/>
        <c:crosses val="autoZero"/>
        <c:auto val="1"/>
        <c:lblAlgn val="ctr"/>
        <c:lblOffset val="100"/>
        <c:noMultiLvlLbl val="0"/>
      </c:catAx>
      <c:valAx>
        <c:axId val="23521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17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F67-01F6-4654-ACD6-DF564CD0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5A4-7F9A-47B3-83F8-ECF35F90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CE6-10A8-4822-9C3F-C8615A8C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9FC-4999-4FE4-ACC4-45E54667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10D-77FB-461C-8DDA-8AF8937D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876-F593-4C89-8B67-D1056679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08E-6A6B-42E4-BA77-C335D1C4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65B0-88F5-4DAF-8BBD-3C63563A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212-87CB-40DC-8AEA-1A2C21C8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4E7-B1E5-47EE-941C-FFDC939F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A39-54C7-46B1-B3E1-C13F8E70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FE9-BE80-4112-8EAD-0BC31511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90B4A-BC63-4008-B8B9-A31BB9B271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