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62085"/>
        <c:axId val="12143895"/>
      </c:barChart>
      <c:catAx>
        <c:axId val="32762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43895"/>
        <c:crosses val="autoZero"/>
        <c:auto val="1"/>
        <c:lblAlgn val="ctr"/>
        <c:lblOffset val="100"/>
        <c:noMultiLvlLbl val="0"/>
      </c:catAx>
      <c:valAx>
        <c:axId val="12143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62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BAF-A298-4DDF-9008-B54C3C9F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335-5789-40FE-A5E4-8523A6D7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E10-C72E-4D36-889D-9C4567DA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0AB-706E-40BA-86B4-A07F0E01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F65-33E5-473E-A93C-42EF9543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941-91D7-42DD-87DE-214E0D8D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31F-EE20-46F3-A549-59338568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9AB-6554-4324-8E2D-E97A8AF5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C85-0B2B-407C-A06E-D3E74535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0D0-92E1-4A96-B908-16C086A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D25-5EE0-4645-AB0A-28A10395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946-08ED-4FBC-AF6F-116CAFEA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C3EF6-D8FB-42D4-A01A-5744549545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