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313428"/>
        <c:axId val="47273566"/>
      </c:barChart>
      <c:catAx>
        <c:axId val="931342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273566"/>
        <c:crosses val="autoZero"/>
        <c:auto val="1"/>
        <c:lblAlgn val="ctr"/>
        <c:lblOffset val="100"/>
        <c:noMultiLvlLbl val="0"/>
      </c:catAx>
      <c:valAx>
        <c:axId val="4727356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1342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CB055-D421-45F0-950E-9F648EA74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D754E-0EED-4384-BC25-060E21F78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AECD0-4D21-4039-91A9-CA21C3FD6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D7C71-559F-46D1-BC97-D07EC9A6F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66DE6-2C02-44AD-826E-6336CD5F3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57EB6-9999-4470-88AE-53B212228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F3CC9-4E7F-40B1-A3C1-BE89C559F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957BA-4729-4DA3-9E3D-E9D414E89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24885-75B7-481D-8DFF-FBBF25447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27FEA-13B9-4C52-930C-F75F907EC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8F96A-2AA5-4B15-BB83-716C60326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E5A6F-AAFF-4468-BF31-888DB7662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698F4C-CCD5-4A89-9958-F0847BD9247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