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57359"/>
        <c:axId val="41658110"/>
      </c:barChart>
      <c:catAx>
        <c:axId val="306573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58110"/>
        <c:crosses val="autoZero"/>
        <c:auto val="1"/>
        <c:lblAlgn val="ctr"/>
        <c:lblOffset val="100"/>
        <c:noMultiLvlLbl val="0"/>
      </c:catAx>
      <c:valAx>
        <c:axId val="41658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573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0640-ED4E-4C1A-AF9D-4F272D03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6BAB-42CB-461E-B0D5-5DBC2256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F8A-EE81-4C9B-B99E-F42DF34B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3D80-A288-4DF3-BCC4-01418537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B66C-59BE-45EA-823E-3D4DA1A0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2AD-92D8-42E1-BDB1-BF1AA8E2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40D-DBDF-4C37-A008-2AF96BFF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717-B8E8-4C5F-A529-92BCFA7B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743-656B-4979-9391-2D014DF7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21C3-9C36-4732-802E-9CC1ADC3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FEE2-E89F-4CAA-B500-79605F96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3426-FFD7-4003-972B-764126DC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2BE3E-668D-493E-A30E-40866BCDE3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