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87537"/>
        <c:axId val="51342525"/>
      </c:barChart>
      <c:catAx>
        <c:axId val="95487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2525"/>
        <c:crosses val="autoZero"/>
        <c:auto val="1"/>
        <c:lblAlgn val="ctr"/>
        <c:lblOffset val="100"/>
        <c:noMultiLvlLbl val="0"/>
      </c:catAx>
      <c:valAx>
        <c:axId val="51342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87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BBE-93EE-4A54-A954-138754FB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A29-4DEE-486D-AAF6-AD2CEAB3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2D9-D0DF-4D52-91F4-E75D5C80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5C2-2085-478C-8DA3-0DF5F58D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D72-2E7C-48EE-9AA6-9EE8BE49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F44-9A7E-4EE8-A8E7-51781075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DD1-F9B8-4D0C-8F24-944408BA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C2A-0523-4232-933D-B62AB372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190-DB9D-40A7-8FB3-A8B4CE89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C34-78A0-41C0-B516-9DFF5E79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7DE-844D-49EB-87D5-E2DAE33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FBB-DF85-4A57-B5CE-A5B2085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CA122-0173-444D-95BB-ED9D38CED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