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96329"/>
        <c:axId val="19335586"/>
      </c:barChart>
      <c:catAx>
        <c:axId val="54796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35586"/>
        <c:crosses val="autoZero"/>
        <c:auto val="1"/>
        <c:lblAlgn val="ctr"/>
        <c:lblOffset val="100"/>
        <c:noMultiLvlLbl val="0"/>
      </c:catAx>
      <c:valAx>
        <c:axId val="19335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96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31C-8F71-4C5E-8EEA-E0072881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34F-C696-4374-95EC-4243B199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1D7-46FE-4E66-B693-5C75641D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C15-09DE-429A-B3CE-1C49B5DD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D3E-B8B0-4727-A9B8-EAEE4F18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EF8-EAD2-4783-A05D-F04D01C3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6DE-56C8-4B51-B628-1EF23A39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6AB-5FA5-4A41-A7ED-3C03A3B6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C03-0035-4238-85E5-42723DFC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EAE-8730-43B9-AE82-A2DF816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6D4-7AFD-43B3-B7EC-D8C90867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4B6-4334-4DE5-AF54-50C46E03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013CB-7935-4EBA-9A0D-8957A3E7A6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