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15351"/>
        <c:axId val="59883350"/>
      </c:barChart>
      <c:catAx>
        <c:axId val="57115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83350"/>
        <c:crosses val="autoZero"/>
        <c:auto val="1"/>
        <c:lblAlgn val="ctr"/>
        <c:lblOffset val="100"/>
        <c:noMultiLvlLbl val="0"/>
      </c:catAx>
      <c:valAx>
        <c:axId val="59883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15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E85-F43F-4F07-878D-3599F6C2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CCA-9CDD-4B1F-90AE-8183559D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184-10A8-4064-900F-7C2B24AE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7E3-0920-440C-9810-0BBB8825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3FD-071B-4AEA-9561-779C9B3A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C58-31AC-4BF4-8C0D-1B02FE80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A55-E92C-4C09-A5C2-E49FC0CD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262-D1ED-4E71-AD81-D9DB2050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666-98FB-4E1A-9CC3-84FC960B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CAE-35B3-41B8-A0B9-EA9E9611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6E4-0EE6-4704-8BE2-AD1C196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B73-FBD8-45E6-84E1-CB2AEB84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A56B2-5770-4D80-A063-3F65116BBE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