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370857"/>
        <c:axId val="34374801"/>
      </c:barChart>
      <c:catAx>
        <c:axId val="26370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74801"/>
        <c:crosses val="autoZero"/>
        <c:auto val="1"/>
        <c:lblAlgn val="ctr"/>
        <c:lblOffset val="100"/>
        <c:noMultiLvlLbl val="0"/>
      </c:catAx>
      <c:valAx>
        <c:axId val="34374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70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1D1-8DAF-4ED5-B2A3-665E90A9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9A2-1DB9-4816-9254-D5806DCA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98C-0228-4628-A947-412DA6F5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36A-8E5F-4760-ADD2-41D30CF86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087-FECE-4A28-895E-573F477D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F3E-A0D3-4EE4-A6B5-A0883B2E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15F-A6E8-4C3A-988A-65CE216C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F9F-7D59-4976-9396-EF4A3A4E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CF0-47A7-4290-B1E6-545C32C3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CE7-773B-4B46-B150-3DB29EF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8D7-1EE7-40B8-A30D-2B4A4AC6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554-41AF-44AB-AAD8-83C461A1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AAC5E-030A-42D7-9756-6EF5716298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