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8881"/>
        <c:axId val="86447661"/>
      </c:barChart>
      <c:catAx>
        <c:axId val="82478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7661"/>
        <c:crosses val="autoZero"/>
        <c:auto val="1"/>
        <c:lblAlgn val="ctr"/>
        <c:lblOffset val="100"/>
        <c:noMultiLvlLbl val="0"/>
      </c:catAx>
      <c:valAx>
        <c:axId val="86447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8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541-A4D6-4D7A-8615-BE78773F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76A-DDE2-498F-B4F3-CC8F1F9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CDD-F998-4D5A-BF0C-B1E22078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05E-E5AE-4964-B231-FD722BA6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62D-7F9B-40FD-9FDF-436DFB2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032-C39A-43C5-BD8A-E10A3B3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6BC-A8D7-419C-B213-CAEC09F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170-554B-4EB3-A168-6404C12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FFE-EE40-4618-8544-DF679B8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979-DA64-4CBA-ACCC-39A94C0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B5E-F487-4959-869C-4FB32F6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DB9-C249-4967-A3CA-CE74249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202B-1A37-49F1-A2F9-4268066142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