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1602747"/>
        <c:axId val="91712547"/>
      </c:barChart>
      <c:catAx>
        <c:axId val="8160274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712547"/>
        <c:crosses val="autoZero"/>
        <c:auto val="1"/>
        <c:lblAlgn val="ctr"/>
        <c:lblOffset val="100"/>
        <c:noMultiLvlLbl val="0"/>
      </c:catAx>
      <c:valAx>
        <c:axId val="9171254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60274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F8532-C02F-4A31-BD38-C9561A0E4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5A59B-6117-47FF-8103-92B2950AD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113D6-94AC-44D0-B0F0-91C24B174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28D0D-A89D-4BF9-97F1-593560DBB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EC0BD-381F-4165-B3E7-C52CECD0E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3D724-1774-428A-B968-2175D91F8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79FB5-3EFD-4EFB-957F-76D086779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B4F25-053A-4970-9224-87C94DE4F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17117-D5D5-4BB5-A253-1D94C7F9A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07C87-BA23-4093-B0B8-61C0CC5F5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01EBB-134C-489E-B8E7-1B9AFB703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C33D0-BA10-4D76-917F-F454B310B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5FA3E9-CAE3-4494-86B8-813B993A779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