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65591"/>
        <c:axId val="54260160"/>
      </c:barChart>
      <c:catAx>
        <c:axId val="83765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60160"/>
        <c:crosses val="autoZero"/>
        <c:auto val="1"/>
        <c:lblAlgn val="ctr"/>
        <c:lblOffset val="100"/>
        <c:noMultiLvlLbl val="0"/>
      </c:catAx>
      <c:valAx>
        <c:axId val="54260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65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880-E896-4FA5-B28C-8C6AAE94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1D1-0785-422F-BFA8-9C2B1735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8BF-E80F-4820-A5A0-A11B09D9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F7A-7B4C-4587-8CF0-E9104338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A29-CA18-4A52-BA5F-AC6A04BF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DA9-0D4E-4107-B55C-496F62CA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F5E-AE52-4607-A5F9-B78AAC39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E8F-B973-43A7-A619-4D4E169E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068-C2CA-4E5F-884E-AFB27F36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203-8767-4E7B-B82F-2CAD4198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772-D2A1-4926-84FE-7F32EFEE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DF4-9950-4380-A7DE-737C2D74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9349E-0D80-44B4-A9ED-5AFADD6485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