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12201"/>
        <c:axId val="99662541"/>
      </c:barChart>
      <c:catAx>
        <c:axId val="81812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62541"/>
        <c:crosses val="autoZero"/>
        <c:auto val="1"/>
        <c:lblAlgn val="ctr"/>
        <c:lblOffset val="100"/>
        <c:noMultiLvlLbl val="0"/>
      </c:catAx>
      <c:valAx>
        <c:axId val="99662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12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D57-2AD7-440B-A02A-7BAF16A7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477-F2C8-4F51-9155-D90F4568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930-9992-4D26-B279-D4DCA228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DC5-015C-4738-AE76-1F9F3A43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B09-471E-41E0-B21C-45033356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564-019B-4E56-AF51-A0A092AC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7A1-C84D-4C75-975A-7C4A0646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655-FDF7-4926-BD26-D497E356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B63-60AE-4FD6-B9CC-C61BA57E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10C-1171-4E39-99F7-6580AC62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EAE-B82F-42FB-86A9-8E03999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5C0-74A7-4986-A623-BC94B00D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96E1B-2C1F-4669-B364-02105570BC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