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247554"/>
        <c:axId val="74911100"/>
      </c:barChart>
      <c:catAx>
        <c:axId val="462475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911100"/>
        <c:crosses val="autoZero"/>
        <c:auto val="1"/>
        <c:lblAlgn val="ctr"/>
        <c:lblOffset val="100"/>
        <c:noMultiLvlLbl val="0"/>
      </c:catAx>
      <c:valAx>
        <c:axId val="749111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2475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FF91-EABF-43CA-9EE5-816B662C5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C87A-6EF4-4F08-A429-B57A6F634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DD15-9DCB-4F83-9A25-B14664F2B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026E-EDBD-4E27-800A-777D47F5C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D6B3-549C-42C6-BD77-C97A25D70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A6B9-050B-42F0-801F-EB5E33883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67E0-3DB8-4C88-B9F4-47DD03893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CAAA-0CD3-4F5E-9E3F-34DFF8959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2324-C8DA-4570-B4B1-DEA4C596E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8A4F-E321-4FC8-B7EC-13D89AAF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1433-6072-481F-A8E9-78543A80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8F2D-DC46-41D4-B852-8ED8FD7A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B83349-4E35-44F0-9E2D-49983424353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