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227715"/>
        <c:axId val="60223853"/>
      </c:barChart>
      <c:catAx>
        <c:axId val="38227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223853"/>
        <c:crosses val="autoZero"/>
        <c:auto val="1"/>
        <c:lblAlgn val="ctr"/>
        <c:lblOffset val="100"/>
        <c:noMultiLvlLbl val="0"/>
      </c:catAx>
      <c:valAx>
        <c:axId val="602238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27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E276-93E8-4040-B79A-9ED9CC8F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E902-3E4D-4C6A-B648-48C202F8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A38E-29CA-41D9-BE56-04D9442D6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D855-A8A7-485F-9E90-42C45A1FB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93AE-3D41-49B2-983C-6C3F50A7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F06B6-5AAA-492B-B6EC-FDD9D5149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52C0-BAD4-4038-9C2B-A72A6278D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DFB7-9723-4540-82F9-EBC38E6C2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104B8-7AFB-4647-8B7D-290F009EC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FE4-95D9-4424-9B3E-03D37DD3B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6ACF-5D80-4D4B-8EDA-C28C38411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7C7-A1CE-492F-B97F-0355A00AD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57C83-9F10-4B58-9315-083D0B9809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