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047795"/>
        <c:axId val="52711036"/>
      </c:barChart>
      <c:catAx>
        <c:axId val="350477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711036"/>
        <c:crosses val="autoZero"/>
        <c:auto val="1"/>
        <c:lblAlgn val="ctr"/>
        <c:lblOffset val="100"/>
        <c:noMultiLvlLbl val="0"/>
      </c:catAx>
      <c:valAx>
        <c:axId val="527110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0477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A977-23A9-40B2-AA02-D40834211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0500-7B8E-49BC-9E9A-459DD2FC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ADC4-B534-414A-8154-5FCE22690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4ABA-2576-494D-BC7A-DC12D70B6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883F-AFE1-4E5B-95D3-E82E67C7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FDCB-5BFE-49DF-8C74-C28B1822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1311-BF6D-4937-9A79-F2AF1AC8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4FA8-87A6-40DA-849B-DA70550C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F4EB-D41A-4971-BED1-C7DEA6B7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7B96-65DB-49E6-A6DF-815A675E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56F6-4E75-420D-9AD9-95B9CE4A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AF84-1B4C-40C2-9A51-14B8679A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B8952-8AB3-49D2-9168-B5B0B8EA46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