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63686"/>
        <c:axId val="88543562"/>
      </c:barChart>
      <c:catAx>
        <c:axId val="33763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43562"/>
        <c:crosses val="autoZero"/>
        <c:auto val="1"/>
        <c:lblAlgn val="ctr"/>
        <c:lblOffset val="100"/>
        <c:noMultiLvlLbl val="0"/>
      </c:catAx>
      <c:valAx>
        <c:axId val="88543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63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BC1-2C1E-447C-9C70-D4173F51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0B7-9698-4E79-968E-D51A1C7A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4B7-6AC8-4143-BBB7-B0B74373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F2F-39B6-4FC5-89B7-D103D3E8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238-61F1-42A0-95A4-AAFBA125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36C-4B0F-46A7-AE98-EB5623B3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74D-CF0A-4BA4-A918-D0143C6C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9E9-F653-459A-B1A4-E6D350D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E19-8BC2-4ECC-A999-8F49194C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F46-AC17-43AE-A3CD-4647577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CC5-9B0E-49F0-BAE8-680C1033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36D-AD23-4B47-89A5-51F482F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E399D-F401-42B4-B946-38F21CF39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