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86833"/>
        <c:axId val="93860528"/>
      </c:barChart>
      <c:catAx>
        <c:axId val="61286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60528"/>
        <c:crosses val="autoZero"/>
        <c:auto val="1"/>
        <c:lblAlgn val="ctr"/>
        <c:lblOffset val="100"/>
        <c:noMultiLvlLbl val="0"/>
      </c:catAx>
      <c:valAx>
        <c:axId val="93860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86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7EA-30B5-421D-A419-665B92B7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16D-3F00-490C-A1E6-A4BA9894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CA2-7423-41DC-A579-8F435A4C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5C5-CE77-4E1A-8D0F-52AE8440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20F-40DE-4223-B7F6-3DD7CC5E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8F4-AB6F-4688-A74B-16BF09B9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FD9-B560-4326-A289-9F205A3F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02A-3A85-4F23-8EB1-DB17A083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3B5-4DA8-4FF0-AC60-60E4F8F6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BE8-F435-491D-9D2C-2BBBAE45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39A-91FA-49E5-A3E5-1CDC5970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65A-81C2-4546-AED1-D5BE58F6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560F9-157D-454E-9EFB-4B89822DE8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