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22599"/>
        <c:axId val="62696746"/>
      </c:barChart>
      <c:catAx>
        <c:axId val="70022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6746"/>
        <c:crosses val="autoZero"/>
        <c:auto val="1"/>
        <c:lblAlgn val="ctr"/>
        <c:lblOffset val="100"/>
        <c:noMultiLvlLbl val="0"/>
      </c:catAx>
      <c:valAx>
        <c:axId val="62696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2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90C-3C48-4CED-9AE7-7DAC666E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040-F42D-414F-B1C3-1249DA0D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DB1-63FD-4381-A5E9-0D3C41C5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F4E-22D5-48AA-AB53-D87A77E7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6D0-CC43-4CCB-AB3C-0E57363D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569-B29A-4316-9398-68C3D00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F8A-5A22-434A-8727-12F7AAC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391-77FC-470D-8D3B-FE57AA96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555-FF3D-49D1-8897-860A8DE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3D6-4F6D-4C55-BCDF-D81DC9E5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BF1-317E-475A-8F3B-6A8C9B03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373-ADF6-4E20-B7F3-C976210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0F94D-CD51-4563-932C-226A0547EB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